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7995-774D-495D-9949-25E036852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62C7-FE3E-41C7-8B72-B1D5263B9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E63D-D101-41C6-AE57-A966A50D8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DD98-216E-46A8-96DA-FE732134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6EE2-C100-4909-8E48-7658B495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4DBF-864F-45B5-A81C-C054B3D23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FA68-2F00-46A7-96BA-C2C2519B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CE9E-9B82-465C-9520-998342AF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4FE6-FD3B-4691-BC6D-C55A1BA9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2586-AC01-4BD2-9564-13A4620B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8011-72B3-441F-B030-5380BE65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7181-DE91-4359-A3ED-BB2013CE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0E11-1931-43EE-81FA-F494128B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9F9B-6693-4BA5-9015-7816D073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1CE3-DF27-4DA2-BB7F-108F4A5B9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752480" y="2590920"/>
            <a:ext cx="5562720" cy="900000"/>
            <a:chOff x="1752480" y="2590920"/>
            <a:chExt cx="5562720" cy="900000"/>
          </a:xfrm>
        </p:grpSpPr>
        <p:sp>
          <p:nvSpPr>
            <p:cNvPr id="49" name="Text Box 3"/>
            <p:cNvSpPr/>
            <p:nvPr/>
          </p:nvSpPr>
          <p:spPr>
            <a:xfrm>
              <a:off x="6477120" y="2590920"/>
              <a:ext cx="8380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4"/>
            <p:cNvSpPr/>
            <p:nvPr/>
          </p:nvSpPr>
          <p:spPr>
            <a:xfrm>
              <a:off x="5105520" y="2590920"/>
              <a:ext cx="8380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3581280" y="2666880"/>
              <a:ext cx="762120" cy="8240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6"/>
            <p:cNvSpPr/>
            <p:nvPr/>
          </p:nvSpPr>
          <p:spPr>
            <a:xfrm>
              <a:off x="1752480" y="2590920"/>
              <a:ext cx="83844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 Box 7"/>
          <p:cNvSpPr/>
          <p:nvPr/>
        </p:nvSpPr>
        <p:spPr>
          <a:xfrm>
            <a:off x="3429000" y="4495680"/>
            <a:ext cx="2514600" cy="3070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6f0b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Arial"/>
              </a:rPr>
              <a:t>מלאית סיכום החלטו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2590560" y="304920"/>
            <a:ext cx="4343760" cy="1295280"/>
            <a:chOff x="2590560" y="304920"/>
            <a:chExt cx="4343760" cy="1295280"/>
          </a:xfrm>
        </p:grpSpPr>
        <p:sp>
          <p:nvSpPr>
            <p:cNvPr id="55" name="Text Box 9"/>
            <p:cNvSpPr/>
            <p:nvPr/>
          </p:nvSpPr>
          <p:spPr>
            <a:xfrm>
              <a:off x="3581280" y="304920"/>
              <a:ext cx="2210040" cy="7855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מליאה ראשונית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מינוי ועדו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 flipH="1">
              <a:off x="2590560" y="1143000"/>
              <a:ext cx="9903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411480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533412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5791320" y="1143000"/>
              <a:ext cx="1143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468360" y="1600200"/>
            <a:ext cx="8064360" cy="971640"/>
            <a:chOff x="468360" y="1600200"/>
            <a:chExt cx="8064360" cy="971640"/>
          </a:xfrm>
        </p:grpSpPr>
        <p:sp>
          <p:nvSpPr>
            <p:cNvPr id="61" name="Text Box 15"/>
            <p:cNvSpPr/>
            <p:nvPr/>
          </p:nvSpPr>
          <p:spPr>
            <a:xfrm>
              <a:off x="6732720" y="1628640"/>
              <a:ext cx="18000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4952880" y="1600200"/>
              <a:ext cx="1706760" cy="3682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ועדת _____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2971800" y="1600200"/>
              <a:ext cx="190512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468360" y="1600200"/>
              <a:ext cx="242712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214308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392904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5643720" y="21430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 flipH="1">
              <a:off x="6928920" y="2143080"/>
              <a:ext cx="7164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3"/>
          <p:cNvGrpSpPr/>
          <p:nvPr/>
        </p:nvGrpSpPr>
        <p:grpSpPr>
          <a:xfrm>
            <a:off x="2268360" y="3213000"/>
            <a:ext cx="4589280" cy="1072080"/>
            <a:chOff x="2268360" y="3213000"/>
            <a:chExt cx="4589280" cy="1072080"/>
          </a:xfrm>
        </p:grpSpPr>
        <p:sp>
          <p:nvSpPr>
            <p:cNvPr id="70" name="Text Box 24"/>
            <p:cNvSpPr/>
            <p:nvPr/>
          </p:nvSpPr>
          <p:spPr>
            <a:xfrm>
              <a:off x="3962520" y="3581280"/>
              <a:ext cx="1295280" cy="7038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Arial"/>
                </a:rPr>
                <a:t>הועדה המתמד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2268360" y="3213000"/>
              <a:ext cx="163368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4140360" y="328464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 flipH="1">
              <a:off x="5036760" y="3276720"/>
              <a:ext cx="220680" cy="36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 flipH="1">
              <a:off x="5257440" y="3276720"/>
              <a:ext cx="160020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29"/>
          <p:cNvGrpSpPr/>
          <p:nvPr/>
        </p:nvGrpSpPr>
        <p:grpSpPr>
          <a:xfrm>
            <a:off x="4038480" y="4869000"/>
            <a:ext cx="1219320" cy="1305360"/>
            <a:chOff x="4038480" y="4869000"/>
            <a:chExt cx="1219320" cy="1305360"/>
          </a:xfrm>
        </p:grpSpPr>
        <p:sp>
          <p:nvSpPr>
            <p:cNvPr id="76" name="Text Box 30"/>
            <p:cNvSpPr/>
            <p:nvPr/>
          </p:nvSpPr>
          <p:spPr>
            <a:xfrm>
              <a:off x="4038480" y="5181480"/>
              <a:ext cx="121932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לא אוש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31"/>
            <p:cNvSpPr/>
            <p:nvPr/>
          </p:nvSpPr>
          <p:spPr>
            <a:xfrm>
              <a:off x="4114800" y="5867280"/>
              <a:ext cx="11430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לא מחיי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2"/>
            <p:cNvSpPr/>
            <p:nvPr/>
          </p:nvSpPr>
          <p:spPr>
            <a:xfrm>
              <a:off x="4572000" y="486900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3"/>
            <p:cNvSpPr/>
            <p:nvPr/>
          </p:nvSpPr>
          <p:spPr>
            <a:xfrm>
              <a:off x="4572000" y="5638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34"/>
          <p:cNvGrpSpPr/>
          <p:nvPr/>
        </p:nvGrpSpPr>
        <p:grpSpPr>
          <a:xfrm>
            <a:off x="5786280" y="4724280"/>
            <a:ext cx="3129120" cy="2073960"/>
            <a:chOff x="5786280" y="4724280"/>
            <a:chExt cx="3129120" cy="2073960"/>
          </a:xfrm>
        </p:grpSpPr>
        <p:sp>
          <p:nvSpPr>
            <p:cNvPr id="81" name="Text Box 35"/>
            <p:cNvSpPr/>
            <p:nvPr/>
          </p:nvSpPr>
          <p:spPr>
            <a:xfrm>
              <a:off x="7238880" y="5029200"/>
              <a:ext cx="83844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אוש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36"/>
            <p:cNvSpPr/>
            <p:nvPr/>
          </p:nvSpPr>
          <p:spPr>
            <a:xfrm>
              <a:off x="7429680" y="5638680"/>
              <a:ext cx="1485720" cy="115956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מהווה כהמלצה לועידה המחוזית\הארצית והעולמי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37"/>
            <p:cNvSpPr/>
            <p:nvPr/>
          </p:nvSpPr>
          <p:spPr>
            <a:xfrm>
              <a:off x="5786280" y="5786280"/>
              <a:ext cx="1219320" cy="5202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מחייב את הסני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8"/>
            <p:cNvSpPr/>
            <p:nvPr/>
          </p:nvSpPr>
          <p:spPr>
            <a:xfrm>
              <a:off x="5943600" y="4724280"/>
              <a:ext cx="12952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 flipH="1">
              <a:off x="7000560" y="542916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>
              <a:off x="7929720" y="5429160"/>
              <a:ext cx="171360" cy="1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41" descr="bnei"/>
          <p:cNvPicPr/>
          <p:nvPr/>
        </p:nvPicPr>
        <p:blipFill>
          <a:blip r:embed="rId1"/>
          <a:stretch/>
        </p:blipFill>
        <p:spPr>
          <a:xfrm>
            <a:off x="8077320" y="304920"/>
            <a:ext cx="720720" cy="89208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2"/>
          <p:cNvGrpSpPr/>
          <p:nvPr/>
        </p:nvGrpSpPr>
        <p:grpSpPr>
          <a:xfrm>
            <a:off x="454320" y="4523760"/>
            <a:ext cx="2974320" cy="1848240"/>
            <a:chOff x="454320" y="4523760"/>
            <a:chExt cx="2974320" cy="1848240"/>
          </a:xfrm>
        </p:grpSpPr>
        <p:sp>
          <p:nvSpPr>
            <p:cNvPr id="89" name="Text Box 43"/>
            <p:cNvSpPr/>
            <p:nvPr/>
          </p:nvSpPr>
          <p:spPr>
            <a:xfrm>
              <a:off x="457200" y="4952880"/>
              <a:ext cx="18288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אושר חלקי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44"/>
            <p:cNvSpPr/>
            <p:nvPr/>
          </p:nvSpPr>
          <p:spPr>
            <a:xfrm>
              <a:off x="685800" y="5638680"/>
              <a:ext cx="181440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ניסוח מחדש ע"י נציגים מהועדה ומהועדה המתמד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5"/>
            <p:cNvSpPr/>
            <p:nvPr/>
          </p:nvSpPr>
          <p:spPr>
            <a:xfrm flipH="1">
              <a:off x="2285640" y="4800600"/>
              <a:ext cx="11430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46"/>
            <p:cNvSpPr/>
            <p:nvPr/>
          </p:nvSpPr>
          <p:spPr>
            <a:xfrm>
              <a:off x="1447920" y="5410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" name="AutoShape 47"/>
            <p:cNvCxnSpPr>
              <a:stCxn id="90" idx="1"/>
            </p:cNvCxnSpPr>
            <p:nvPr/>
          </p:nvCxnSpPr>
          <p:spPr>
            <a:xfrm flipH="1" rot="10800000">
              <a:off x="685800" y="4523400"/>
              <a:ext cx="2667240" cy="1481760"/>
            </a:xfrm>
            <a:prstGeom prst="bentConnector3">
              <a:avLst>
                <a:gd name="adj1" fmla="val -867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4" name="Line 32"/>
          <p:cNvSpPr/>
          <p:nvPr/>
        </p:nvSpPr>
        <p:spPr>
          <a:xfrm>
            <a:off x="4643280" y="4286160"/>
            <a:ext cx="46080" cy="2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1T18:56:17Z</dcterms:created>
  <dc:creator>Ilan Frydman</dc:creator>
  <dc:description/>
  <dc:language>en-US</dc:language>
  <cp:lastModifiedBy>Ilan</cp:lastModifiedBy>
  <dcterms:modified xsi:type="dcterms:W3CDTF">2010-10-24T05:23:27Z</dcterms:modified>
  <cp:revision>4</cp:revision>
  <dc:subject/>
  <dc:title>Slide 1</dc:title>
</cp:coreProperties>
</file>